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BE6-8068-46D0-B9DC-56D2CF6C6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D343-66CD-41C0-87D6-8367F510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reationrevolution.com/bacteria-share-metabolism-nanowir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website has the byline: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ing the world with the Truth of Creati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it would be interesting to examine the kind of evidence presented to challenge Evolution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D98A-5CF6-401D-B0E6-21EBFE7DE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anmarkltd.tripod.com/taxonomy/id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B94-E1F1-4598-997F-3D7BA5F29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microorganisms/monera/section1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C89F-F31F-4D94-A09F-FAA1E115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911E-1E42-4F0E-BF2F-358FB9F5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orum.ableton.com/viewtopic.php?f=40&amp;t=1872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mallerquestions.org/blog/2012/1/25/pathogenic-gut-microbes-induce-horizontal-gene-transf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232-A33F-4FEF-9902-A0632D81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s://www.google.ca/search?q=bacterial+conjugation&amp;safe=strict&amp;client=safari&amp;rls=en&amp;dcr=0&amp;source=lnms&amp;tbm=isch&amp;sa=X&amp;ved=0ahUKEwjpytP4hqbaAhUC0oMKHahZD9QQ_AUICigB&amp;biw=890&amp;bih=531#imgrc=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B2DD-BFFC-4A59-B233-42AA0818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C320-C16F-4351-9C9C-6287851C5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755E-040B-4CAE-8EE6-8FF1673F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Antibiotic_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44D4-44DE-465F-8E9C-BFF7B9B7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um.ox.ac.uk/thezone/animals/animalid/images/kingdom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4F6B-D17E-42A4-BB29-34E1CF55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nogallery.info/news/?id=8694&amp;slid=news&amp;type=a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687-C93A-4BF4-BDF5-78C36496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B0BB-C00A-4D8A-9080-6669AD60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eripatus.gen.nz/biology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F700-4084-4C2F-8DDD-10C36D4EA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9775-07DF-46A6-90D4-0F54844F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cyanobacteria from: http://www.masterfile.com/stock-photography/image/861-03335947/Cyanobacteria-prokaryotes-once-called-Blue-Green-Algae.-LM-X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D957-7C4D-4DA7-8C68-39C4B6EC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 coli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alaeos.org/index.php?title=Eubacteria&amp;oldid=28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1D1A-7AD4-4B0A-9C6F-52E742F7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CD7-0CC9-4E9D-954B-8ADBB7DE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782-3CB6-4C37-8D70-B2AB882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A77-2CD3-4494-8892-BF2B5AD4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B16-7433-47D8-BDA6-36797B80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B7D-E305-475E-AF27-94A9A22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091-207C-4797-8B98-6A25FB86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5A4-1FE7-4064-96A3-4D55B3E7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ACB-95D2-42C5-8415-B29593B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8C6-24FE-4C64-9CED-6BC3AF07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8F5-F13E-40DF-AE7E-AEB07619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434-32E3-4D77-96C5-EB04487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BE4-ABAB-4571-892D-FB9459F4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AAFD-18D0-4E56-BBAE-E9707D83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 &amp;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44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oop of DNA + plasm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flagella, small hairlike p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cell walls with peptidogly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diverse domai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2" descr="typbacteria.jpg"/>
          <p:cNvPicPr/>
          <p:nvPr/>
        </p:nvPicPr>
        <p:blipFill>
          <a:blip r:embed="rId1"/>
          <a:srcRect l="0" t="-32501" r="0" b="-32501"/>
          <a:stretch/>
        </p:blipFill>
        <p:spPr>
          <a:xfrm>
            <a:off x="4500720" y="1628640"/>
            <a:ext cx="4319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hapes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n occur when DNA is being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inary fission"/>
          <p:cNvPicPr/>
          <p:nvPr/>
        </p:nvPicPr>
        <p:blipFill>
          <a:blip r:embed="rId1"/>
          <a:stretch/>
        </p:blipFill>
        <p:spPr>
          <a:xfrm>
            <a:off x="4340160" y="1523880"/>
            <a:ext cx="3738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ys genetic information can be vari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ion “sexual reprodu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(including horizontal gene 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6" descr="Picture%2B2.png"/>
          <p:cNvPicPr/>
          <p:nvPr/>
        </p:nvPicPr>
        <p:blipFill>
          <a:blip r:embed="rId1"/>
          <a:srcRect l="-48765" t="0" r="-4876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5" descr="g e.jpg"/>
          <p:cNvPicPr/>
          <p:nvPr/>
        </p:nvPicPr>
        <p:blipFill>
          <a:blip r:embed="rId1"/>
          <a:srcRect l="-1199" t="0" r="-119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iotics &amp;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07880" y="143820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ntibiotic-resistance"/>
          <p:cNvPicPr/>
          <p:nvPr/>
        </p:nvPicPr>
        <p:blipFill>
          <a:blip r:embed="rId1"/>
          <a:stretch/>
        </p:blipFill>
        <p:spPr>
          <a:xfrm>
            <a:off x="2151000" y="1981080"/>
            <a:ext cx="484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20px-Antibiotic_resistance"/>
          <p:cNvPicPr/>
          <p:nvPr/>
        </p:nvPicPr>
        <p:blipFill>
          <a:blip r:embed="rId1"/>
          <a:stretch/>
        </p:blipFill>
        <p:spPr>
          <a:xfrm>
            <a:off x="3075120" y="609480"/>
            <a:ext cx="299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upon a time, there were only 5 Kingdo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kingdoms"/>
          <p:cNvPicPr/>
          <p:nvPr/>
        </p:nvPicPr>
        <p:blipFill>
          <a:blip r:embed="rId1"/>
          <a:stretch/>
        </p:blipFill>
        <p:spPr>
          <a:xfrm>
            <a:off x="1901880" y="1981080"/>
            <a:ext cx="52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 in 19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81492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 Woese looked very closely at the Archae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termined that they were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just another taxon of the kingdom Mo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kingdom &amp; idea of domains wer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rl_woese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of cell membrane &amp; cell wall very different from Eu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istinct from Eubacteria &amp;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3domains_200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3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gmrRNA"/>
          <p:cNvPicPr/>
          <p:nvPr/>
        </p:nvPicPr>
        <p:blipFill>
          <a:blip r:embed="rId1"/>
          <a:stretch/>
        </p:blipFill>
        <p:spPr>
          <a:xfrm>
            <a:off x="2541600" y="1447920"/>
            <a:ext cx="3984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therm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celled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ce of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s (see next slide for ex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roles in ecosystems &amp;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l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let fev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ptococcus pyo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ulis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botuli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x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illus anthra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r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25:00Z</dcterms:created>
  <dc:creator>rubina khan</dc:creator>
  <dc:description/>
  <dc:language>en-US</dc:language>
  <cp:lastModifiedBy>rubina khan</cp:lastModifiedBy>
  <dcterms:modified xsi:type="dcterms:W3CDTF">2018-04-06T16:27:21Z</dcterms:modified>
  <cp:revision>70</cp:revision>
  <dc:subject/>
  <dc:title>PowerPoint Presentation</dc:title>
</cp:coreProperties>
</file>